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883960" y="303120"/>
            <a:ext cx="276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RCIPS INTERFACE LI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598400" y="871560"/>
            <a:ext cx="894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A   BLK   YR   MAN HRS   EOE   APC I/O-GVT      DOC NO         MAP/IBOP   FNL-IND   VOUCHER-NO  AMOUNT   TFO/L-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483920" y="1252440"/>
            <a:ext cx="8258760" cy="17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905   *    526-     1100  DPA6          CPA01CA6103351                   L       000000    57,067.00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905   *             1200  DPA6          CPA01CA6103351                   L       000000       257.60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905   *             1200  DPA6          CPA01CA6103351                   L       000000     4,056.80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905   *             1200  DPA6          CPA01CA6103351                   L       000000     2,221.60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FND       526-                                                                            63,603.00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APC       526-                                                                            63,603.00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97000" y="2895480"/>
            <a:ext cx="8397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2960" y="4952880"/>
            <a:ext cx="83980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47640" y="5519880"/>
            <a:ext cx="8182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BLK   24,228-                                                                           290,736.00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8600" y="6434280"/>
            <a:ext cx="9020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 211 AK                                                                                                            34 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08360" y="566640"/>
            <a:ext cx="63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/12/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883960" y="303120"/>
            <a:ext cx="276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RCIPS INTERFACE LI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98400" y="871560"/>
            <a:ext cx="894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A   BLK   YR   MAN HRS   EOE   APC I/O-GVT      DOC NO         MAP/IBOP   FNL-IND   VOUCHER-NO  AMOUNT   TFO/L-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1252440"/>
            <a:ext cx="8182440" cy="17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   905   *    294      1100  DPA6          CPA01CA6103365                           300017     2,116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   905   *             1200  DPA6          CPA01CA6103365                           300017         8.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   905   *             1200  DPA6          CPA01CA6103365                           300017        58.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   905   *             1200  DPA6          CPA01CA6103365                           300017        96.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FND       294                                                                              2,280.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APC       294                                                                              2,280.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000" y="2895480"/>
            <a:ext cx="8397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2960" y="4952880"/>
            <a:ext cx="83980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3960" y="5519880"/>
            <a:ext cx="8182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BLK   13,460                                                                             161,524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08360" y="566640"/>
            <a:ext cx="63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/12/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8600" y="6464160"/>
            <a:ext cx="9020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 211 AK                                                                                                            36 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83960" y="303120"/>
            <a:ext cx="276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RCIPS INTERFACE LI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98400" y="871560"/>
            <a:ext cx="894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A   BLK   YR   MAN HRS   EOE   APC I/O-GVT      DOC NO         MAP/IBOP   FNL-IND   VOUCHER-NO  AMOUNT   TFO/L-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1252440"/>
            <a:ext cx="8182440" cy="17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905   *    232      1100  DPA6          CPA01CA6103365                   L       000000    25,36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905   *             1200  DPA6          CPA01CA6103365                   L       000000       112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905   *             1200  DPA6          CPA01CA6103365                   L       000000      18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905   *             1200  DPA6          CPA01CA6103365                   L       000000       984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FND       232                                                                             28,256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APC       232                                                                             28,256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000" y="2895480"/>
            <a:ext cx="8397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2960" y="4952880"/>
            <a:ext cx="83980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080" y="5519880"/>
            <a:ext cx="8030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BLK   10,768                                                                           129,216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08360" y="566640"/>
            <a:ext cx="63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/12/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8600" y="6464160"/>
            <a:ext cx="9020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 211 AK                                                                                                            38 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38600" y="6477120"/>
            <a:ext cx="8985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 211 AK                                                                                                           13 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5T11:47:46Z</dcterms:created>
  <dc:creator>Jim Nobbs</dc:creator>
  <dc:description/>
  <dc:language>en-US</dc:language>
  <cp:lastModifiedBy>Jay DeShazo</cp:lastModifiedBy>
  <cp:lastPrinted>2000-01-12T22:10:49Z</cp:lastPrinted>
  <dcterms:modified xsi:type="dcterms:W3CDTF">2004-09-14T15:11:26Z</dcterms:modified>
  <cp:revision>11</cp:revision>
  <dc:subject/>
  <dc:title>No Slide Title</dc:title>
</cp:coreProperties>
</file>